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media/image12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E622-2C12-4EA8-ADAD-9494F857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770-D43A-4922-A022-8CE6C554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6C13-02F5-47BD-8290-0E12F3E0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91CF-BBA6-4C90-BCED-537C61A4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C16-EBD0-44B0-B640-D3B46B24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952-968A-41D6-9666-06821316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A9E-C28F-41EF-82ED-94E55B6D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4221-CB1A-406E-975B-176B98D4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8CE1-1C59-4504-B456-9916B91A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3C8D-2538-4120-94CE-778AA717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107A-6E2F-40B1-823C-87D01FFC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1D0-7F3A-4F5D-B3B6-B06AAB9B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72DB-5BDA-4137-BC99-0B2CC73B7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sitory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How and Why” of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Cj04123900000[1]"/>
          <p:cNvPicPr/>
          <p:nvPr/>
        </p:nvPicPr>
        <p:blipFill>
          <a:blip r:embed="rId1"/>
          <a:stretch/>
        </p:blipFill>
        <p:spPr>
          <a:xfrm>
            <a:off x="5791320" y="380880"/>
            <a:ext cx="2217600" cy="1901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MPj04394660000[1]"/>
          <p:cNvPicPr/>
          <p:nvPr/>
        </p:nvPicPr>
        <p:blipFill>
          <a:blip r:embed="rId2"/>
          <a:stretch/>
        </p:blipFill>
        <p:spPr>
          <a:xfrm>
            <a:off x="533520" y="152280"/>
            <a:ext cx="28191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588600" y="136800"/>
            <a:ext cx="7966800" cy="65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Topic Ide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: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No more drug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addictive, hurts families, 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Cure 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epidemic, people are dying, world is unsa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Cure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families are split apart, people die, it is a disease which affects all of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Equality among people/race/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examples of race, religion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Stop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water purity, ozone layer, fish die, people have respiratory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Animal Ab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animal testing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uelty to animals, elephant po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Child Ab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neglect, physical abuse, verbal ab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Family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immorality, adultery, faithfu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school grades, make school fun, scores, learn to read and 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gang warfare, drive by shooting, mafia, robb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World H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India- starving people, Africa, homeless and starving in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Government Dict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Hitler, Hussein, Mussol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descri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f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from personal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anecd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Paragraph O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is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information on your three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dmire friends with great qualities. Three qualities I admire are: loyalty, honesty, a good sense of hum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Paragraph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main idea for paragraph 2 on the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ou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details-describ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 about the topic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anecd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Pj04385250000[1]"/>
          <p:cNvPicPr/>
          <p:nvPr/>
        </p:nvPicPr>
        <p:blipFill>
          <a:blip r:embed="rId1"/>
          <a:stretch/>
        </p:blipFill>
        <p:spPr>
          <a:xfrm>
            <a:off x="838080" y="152280"/>
            <a:ext cx="21337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Paragraph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your main idea on the out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ou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of how the topic works itself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th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MPj04385850000[1]"/>
          <p:cNvPicPr/>
          <p:nvPr/>
        </p:nvPicPr>
        <p:blipFill>
          <a:blip r:embed="rId1"/>
          <a:stretch/>
        </p:blipFill>
        <p:spPr>
          <a:xfrm>
            <a:off x="609480" y="152280"/>
            <a:ext cx="228600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Paragraph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our main idea onto your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ou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examples of how the idea has been experienced by you  in your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the idea “ looks” or what the person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MPj04117850000[1]"/>
          <p:cNvPicPr/>
          <p:nvPr/>
        </p:nvPicPr>
        <p:blipFill>
          <a:blip r:embed="rId1"/>
          <a:stretch/>
        </p:blipFill>
        <p:spPr>
          <a:xfrm>
            <a:off x="1447920" y="0"/>
            <a:ext cx="1168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Conclus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state all of your ideas in your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Pj04117540000[1]"/>
          <p:cNvPicPr/>
          <p:nvPr/>
        </p:nvPicPr>
        <p:blipFill>
          <a:blip r:embed="rId1"/>
          <a:stretch/>
        </p:blipFill>
        <p:spPr>
          <a:xfrm>
            <a:off x="3124080" y="3581280"/>
            <a:ext cx="396252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qualities of a good fri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y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Secr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e of Hum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’t suck up to you/ (real, authentic pers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inte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Transition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our transition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inally, or In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Pj04222370000[1]"/>
          <p:cNvPicPr/>
          <p:nvPr/>
        </p:nvPicPr>
        <p:blipFill>
          <a:blip r:embed="rId1"/>
          <a:stretch/>
        </p:blipFill>
        <p:spPr>
          <a:xfrm>
            <a:off x="6781680" y="380880"/>
            <a:ext cx="23623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let’s write the introduction together, now that we know what we are writing ab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1. Hook- Hook your reader with a question, quote, short anecdote, or personal experience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CSL00688_0000[1]"/>
          <p:cNvPicPr/>
          <p:nvPr/>
        </p:nvPicPr>
        <p:blipFill>
          <a:blip r:embed="rId1"/>
          <a:stretch/>
        </p:blipFill>
        <p:spPr>
          <a:xfrm>
            <a:off x="6553080" y="4800600"/>
            <a:ext cx="23288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What is Expository Wri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itory writing is defined as presenting reasons, explanations, or steps in a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pository essay should follow a logical sequence and have three different main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 and coherence is the main focus of an expository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Introduction –cont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one “background” or informational sentence about each idea you are going to write abou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MPj04309940000[1]"/>
          <p:cNvPicPr/>
          <p:nvPr/>
        </p:nvPicPr>
        <p:blipFill>
          <a:blip r:embed="rId1"/>
          <a:stretch/>
        </p:blipFill>
        <p:spPr>
          <a:xfrm>
            <a:off x="6705720" y="3886200"/>
            <a:ext cx="1677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Thesis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esis statement can be first in the paragraph, last in the paragraph or implied throughout the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I would like to change the world by improving the poverty situation in our world, alleviating crime, and helping the homel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Editing your e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at you have all the elements of an expository es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 that re-states your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rence, logic and clearly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375840" y="350640"/>
            <a:ext cx="816048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ository Ess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 are three different types of expository ess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) Essay that is developed with examples and/or facts and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) Essay that is developed with steps in a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) Essay that is in a compare and contras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graph 1: Introducto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Thesis sentence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Background info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Statistics- if relevant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graph 2: Reason#1 or Process #1  Use a transition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Example/detail #1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Example/detail #2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Example/detail#3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graph 3: Reason #2or Process #2 Use a transition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Example/detail #1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Example/detail#2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Example/detail #3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graph 4: Reason #3 or Process #3 Use a transition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Example/detail #1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Example/detail #2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Example/detail#3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graph 5:Conc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ke a reason from each paragraph and RE-STATE it in the conclusion.  Add a clinch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al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you have a clear logical top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ve you introduced your topic in the first para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you have one reason per para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you have three details to support each rea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ve you used transition words at the beginning of each para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How is it differen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itory writing does not tell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itory writing does not persuade a reader but only gives facts and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itory writing can also give the steps of a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Exposito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an expository should include the main idea and what the essay is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main reasons supporting this main idea should also be included in the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Expository writing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graph two should introduce the first reason and give details to support the first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graph three should introduce the second reason and give details to support the second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graph four should introduce the third reason and give details to support the third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clusion should re-state all the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line for Expos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. Int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Hook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Background information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Background information on topic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. Background information on topic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 Statistic or personal anecdote-optional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. THESIS STATEMENT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. First Reason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Fact/ or example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Detail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Fact/ example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. Detail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 Fact/example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. Detail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. Sum- up statement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. Second Reason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Fact/or example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Detail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Fact/example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. Detail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 Fact/example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. Detail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. Sum- up statement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V. Third Reason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Fact/example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Detail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Fact/example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. Detail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 Fact/example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.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. Conclus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- state all reasons in 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ncher sentence- gives a summation of the above and a “feeling” about the whole ess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transition words, plan reasons in a logical order, make sure you re-state reasons in your conclu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Definition of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is Statement: The main idea of the whole e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words: Words such as first, second, as a result, which make transitions easy in the ess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Ideas: Each paragraph should have a main point or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Details: Details support the main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MPj04395020000[1]"/>
          <p:cNvPicPr/>
          <p:nvPr/>
        </p:nvPicPr>
        <p:blipFill>
          <a:blip r:embed="rId1"/>
          <a:stretch/>
        </p:blipFill>
        <p:spPr>
          <a:xfrm>
            <a:off x="152280" y="409680"/>
            <a:ext cx="205740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Re-Cap:</a:t>
            </a:r>
            <a:br>
              <a:rPr sz="4400"/>
            </a:b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Expository writing need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supporting that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supporting the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clusion re-stating the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 wo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, concise, logical and informative langu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opic: How I Would Change the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ways in which would like to change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se three reasons on the bubble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Pj04037050000[1]"/>
          <p:cNvPicPr/>
          <p:nvPr/>
        </p:nvPicPr>
        <p:blipFill>
          <a:blip r:embed="rId1"/>
          <a:stretch/>
        </p:blipFill>
        <p:spPr>
          <a:xfrm>
            <a:off x="838080" y="4572000"/>
            <a:ext cx="1552680" cy="1941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MPj04276350000[1]"/>
          <p:cNvPicPr/>
          <p:nvPr/>
        </p:nvPicPr>
        <p:blipFill>
          <a:blip r:embed="rId2"/>
          <a:stretch/>
        </p:blipFill>
        <p:spPr>
          <a:xfrm>
            <a:off x="3124080" y="4952880"/>
            <a:ext cx="1710000" cy="1698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MCj01494350000[1]"/>
          <p:cNvPicPr/>
          <p:nvPr/>
        </p:nvPicPr>
        <p:blipFill>
          <a:blip r:embed="rId3"/>
          <a:stretch/>
        </p:blipFill>
        <p:spPr>
          <a:xfrm>
            <a:off x="5410080" y="4495680"/>
            <a:ext cx="979560" cy="2014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MCj02876250000[1]"/>
          <p:cNvPicPr/>
          <p:nvPr/>
        </p:nvPicPr>
        <p:blipFill>
          <a:blip r:embed="rId4"/>
          <a:stretch/>
        </p:blipFill>
        <p:spPr>
          <a:xfrm>
            <a:off x="6858000" y="5105520"/>
            <a:ext cx="1728720" cy="1346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6:18:58Z</dcterms:created>
  <dc:creator>Bono, Julie</dc:creator>
  <dc:description/>
  <dc:language>en-US</dc:language>
  <cp:lastModifiedBy>Angie McCall</cp:lastModifiedBy>
  <dcterms:modified xsi:type="dcterms:W3CDTF">2013-11-06T19:18:02Z</dcterms:modified>
  <cp:revision>20</cp:revision>
  <dc:subject/>
  <dc:title>Expository Writing</dc:title>
</cp:coreProperties>
</file>